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3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AFC4-090C-4676-A667-FEE5F843E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C92A-EC04-4431-AF07-C07BA92F1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5A5-C80A-441A-B208-40D1AD88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B65-BE4E-4B01-A4CF-FBB067C0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278-2B97-43FB-A98F-185811DB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B22-9233-4714-A0FB-D5CEB027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9B2-F0C2-4814-B05E-E67CE95F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27D-EAE7-4430-BD1D-9B877F28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E82-24CF-4839-859B-600B1193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94B-8936-44EC-BF5A-60FF9318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AAC-9E48-4843-9389-85B9A1BC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0B3-F0A6-4D26-8A95-57AAA10B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84C-83FA-43CD-9839-3691226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7F8-5D66-4A0F-A820-74D975F6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E1EA-A58D-4B72-97B5-DFBE70CA9EB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AFF1-1018-4008-9495-9FD65BA57FA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378000" y="6480"/>
            <a:ext cx="8802360" cy="22190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19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  <a:ea typeface="宋体"/>
              </a:rPr>
              <a:t>Elinor Ostr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  <a:ea typeface="宋体"/>
              </a:rPr>
              <a:t>Workshop in Political Theory and Policy Analys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  <a:ea typeface="宋体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enter for the Study of Institutional Divers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  <a:ea typeface="宋体"/>
              </a:rPr>
              <a:t>Arizona State University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6B87-193C-4CF4-864E-CA9121C289B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6840" y="9144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AD framework used to develop coding man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Difficult due to lack of agreement of earlier scholars about what should be repor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Had to screen over 450 cases to code 47 irrigation systems and 44 in-shore fisheries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hree-quarters of farmer-managed systems had high performance – crops grown, benefit-cost rat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Only 42% of governmental irrigation systems had high performance even with fancy engine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nformal fishery groups allocated space, time, and technology to try to reduce overharves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any successfu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515440" cy="107964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9029-705B-4525-9A37-2508A4250F3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ommon-property resource” widely u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onfused the concept of property and that of resour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Need to switch to “common-pool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esource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nd “common-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property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regimes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dentified five types of property rights used in the field rather than the one posited in the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ccess, withdrawal, management, exclusion, and alienation rights were all real righ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Property rights systems may  be mixtures of the five, not just alienation righ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640C-8A3C-43FE-922D-5E7D4EDC5AD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1294920"/>
            <a:ext cx="83725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esource users had devised immense number of different rules fitting their local resourc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gain IAD helped us identify order from this initially chaotic mor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We asked:  What part of an action situation does a rule affec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171360" y="85680"/>
            <a:ext cx="7966080" cy="914400"/>
          </a:xfrm>
          <a:prstGeom prst="rect">
            <a:avLst/>
          </a:prstGeom>
          <a:ln w="0">
            <a:noFill/>
          </a:ln>
        </p:spPr>
      </p:pic>
      <p:sp>
        <p:nvSpPr>
          <p:cNvPr id="35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9FA1-1D7D-4699-AC73-867D4A07F4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24"/>
          <p:cNvSpPr/>
          <p:nvPr/>
        </p:nvSpPr>
        <p:spPr>
          <a:xfrm>
            <a:off x="324000" y="0"/>
            <a:ext cx="86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7a8f"/>
                </a:solidFill>
                <a:latin typeface="Lucida Sans Unicode"/>
              </a:rPr>
              <a:t>Rules as exogenous variables directly affecting the elements of an actio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63480" y="1278000"/>
            <a:ext cx="7777080" cy="47559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24"/>
          <p:cNvSpPr/>
          <p:nvPr/>
        </p:nvSpPr>
        <p:spPr>
          <a:xfrm>
            <a:off x="3657600" y="6324480"/>
            <a:ext cx="53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aecd"/>
                </a:solidFill>
                <a:latin typeface="Arial"/>
                <a:ea typeface="Arial"/>
              </a:rPr>
              <a:t>Source</a:t>
            </a:r>
            <a:r>
              <a:rPr b="0" lang="en-US" sz="2000" spc="-1" strike="noStrike">
                <a:solidFill>
                  <a:srgbClr val="1faecd"/>
                </a:solidFill>
                <a:latin typeface="Arial"/>
                <a:ea typeface="Arial"/>
              </a:rPr>
              <a:t>:  Adapted from E. Ostrom (2005:1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3CE3-507E-410C-A9D3-A50F1458EC0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64760" cy="1158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he variety of specific rules within each type was immens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Boundary rules for fisheries, irrigation systems, and forests differe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ended not to allocate quantitative harvesting rights – frequently based on technology, geography, seas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宋体"/>
              </a:rPr>
              <a:t>Scholars frequently rejected these rules and proposed imposition of transferable rights to quant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any rules evolved over a long time to fit local resourc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FD7-72CF-421C-932A-05B8218BBAA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Once studies were coded, I had hoped it would be feasible to find an optimal set of rules used by robust, long-surviving institutions and not used in the fragi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fter a long struggle – realized this was not feasible and turned to the analysis of underlying practices of successful systems that survived for long periods of time that were not present in fail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alled these design princip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95120" y="195120"/>
            <a:ext cx="7766280" cy="115740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D054-1A2D-44A7-B1B8-CC948F03094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ox, Arnold &amp; Villamajor. 2010: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Ecology &amp; Socie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eviewed 90+ studies from around the world (by other scholars) of applicability of design principl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Foundation substantial support for design princip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Have proposed clarification so that ecological factors (such as physical boundaries) are not combined with social factors (such as group membership requirement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12B-B01E-4166-9969-0412A1D421B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Boundar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– now distinguish clear boundaries between users &amp; non-users and for the resource its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ongruen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– now distinguish rules congruent with local social &amp; ecological conditions from distribution of benefits and cos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onitor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– included monitoring resource conditions as well as user 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5FFA-33E7-4961-8346-691E8FE20C2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228600" y="1066320"/>
            <a:ext cx="868680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aboratory provides the capability to design a CPR experiment and slowly change one factor at a time to assess the impact on outco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When subjects make decisions anonymously with no communication – overharvest worse than predicte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Face-to-face communication (cheap talk) enables them to increase cooper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f they design their own sanctioning system achieve close to full optim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hallenged dominant theory that users w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helpl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290080" cy="1433520"/>
          </a:xfrm>
          <a:prstGeom prst="rect">
            <a:avLst/>
          </a:prstGeom>
          <a:ln w="0">
            <a:noFill/>
          </a:ln>
        </p:spPr>
      </p:pic>
      <p:sp>
        <p:nvSpPr>
          <p:cNvPr id="37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8DA-1C23-41AB-A3DA-D22DFC5595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19120"/>
            <a:ext cx="802008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ompared 226 systems designed by engineers and run by government with those built and run by far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Farmer-systems were quite “primitive” in terms of construction, but they were able 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grow more crop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un their systems more efficient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get more water to the tail 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gain, challenged dominant theory that farmers would not be able to self-organ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538D-913F-4770-A783-94EE332B3D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ancur Olson and Garrett Hardin published key work on social dilemmas in 1960’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heir work led to the prediction that self-organization was </a:t>
            </a:r>
            <a:r>
              <a:rPr b="1" i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mpossibl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No one will cooperate because they fear others will free ride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itizens are thus presumed to be trapped in a social dilemm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Other humans – public officials – are supposed to impose optimal policies based on models that academics devis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end to recommend panacea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4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86800" cy="1341360"/>
          </a:xfrm>
          <a:prstGeom prst="rect">
            <a:avLst/>
          </a:prstGeom>
          <a:ln w="0">
            <a:noFill/>
          </a:ln>
        </p:spPr>
      </p:pic>
      <p:sp>
        <p:nvSpPr>
          <p:cNvPr id="32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BDF4-62B2-444A-8054-978A076181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nternational Forestry Resources and Institutions (IFRI) research progra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2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FRI is unique - the only interdisciplinary, long-term research program studying forests owned by governments, private organizations, and communities in multiple count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2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ollaborating with centers in Africa, Asia, Latin America, and the U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2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ll use same research protocols to carefully measure forests (e.g. species diversity, basal area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2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easure if and how users are organized, the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ctivities, and living condi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182520"/>
            <a:ext cx="8326440" cy="84132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EF1D-C1F8-4BFE-9CF4-A909B77A505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914400"/>
            <a:ext cx="8381880" cy="60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n sustainable forests around the world, users are active monitors of the level of harvesting occurring in their fore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Users monitoring forests is more important than type of forest ownership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ecent analyses examine tradeoffs and synergies between level of carbon storage in forests and their contributions to livelihood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arger forests more effective in enhancing carbon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livelihood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Even stronger when local communities have rule-making autonomy and incentives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oni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25360" y="139680"/>
            <a:ext cx="8186760" cy="78120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41C0-8E1C-4908-B337-7F66F75AC03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6840" y="1190160"/>
            <a:ext cx="84582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heory of rational but helpless individuals not suppor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We are now working with a behavioral theory of individual cho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Boundedly rational, but learn through experi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Use heuristics but update over tim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earn norms and potentially value benefits to othe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rusting others is central to cooperation and affected by contex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8186760" cy="134172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E22D-CF73-4C66-976C-A091D86B48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24"/>
          <p:cNvSpPr/>
          <p:nvPr/>
        </p:nvSpPr>
        <p:spPr>
          <a:xfrm>
            <a:off x="324000" y="103320"/>
            <a:ext cx="85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7a8f"/>
                </a:solidFill>
                <a:latin typeface="Lucida Sans Unicode"/>
              </a:rPr>
              <a:t>Microsituational and broader context of social dilemmas affects levels of trust and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14280" y="2095560"/>
            <a:ext cx="8588520" cy="27432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24"/>
          <p:cNvSpPr/>
          <p:nvPr/>
        </p:nvSpPr>
        <p:spPr>
          <a:xfrm>
            <a:off x="2651040" y="5718240"/>
            <a:ext cx="63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aecd"/>
                </a:solidFill>
                <a:latin typeface="Arial"/>
                <a:ea typeface="Arial"/>
              </a:rPr>
              <a:t>Source</a:t>
            </a:r>
            <a:r>
              <a:rPr b="0" lang="en-US" sz="2000" spc="-1" strike="noStrike">
                <a:solidFill>
                  <a:srgbClr val="1faecd"/>
                </a:solidFill>
                <a:latin typeface="Arial"/>
                <a:ea typeface="Arial"/>
              </a:rPr>
              <a:t>:  Poteete, Janssen, and Ostrom (2010:ch. 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B807-D087-47F2-A94B-57FBBF0DCB5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6840" y="1523880"/>
            <a:ext cx="84582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Lucida Sans Unicode"/>
                <a:ea typeface="宋体"/>
              </a:rPr>
              <a:t>Factors that affect cooperation in CPRs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ommunication among particip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eputation of participants know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High marginal retur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Entry &amp; exit capabi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onger time horiz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greed upon sanctioning mechanis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ll factors that increase likelihood that participants gain trust in others and reduce the probability of being a suck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01600" y="30240"/>
            <a:ext cx="8845560" cy="143352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FD22-9452-4F9A-A33D-FFCC7872E9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 network of colleagues across the USA  and Europe working on identifying aspects of the broader context that affects diverse action situa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nitial organization of resource use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New infrastructur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aintenance of syst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obustness to external disturba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esource sustainability across water, forests, and fishery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et’s take a look at the highest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25360" y="139680"/>
            <a:ext cx="8620200" cy="134136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E952-E7F1-4AFE-AAB8-37FB69CDFFC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8"/>
          <p:cNvSpPr/>
          <p:nvPr/>
        </p:nvSpPr>
        <p:spPr>
          <a:xfrm>
            <a:off x="1087560" y="2174760"/>
            <a:ext cx="6913440" cy="286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2212920" y="2806560"/>
            <a:ext cx="477720" cy="33048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0"/>
          <p:cNvSpPr/>
          <p:nvPr/>
        </p:nvSpPr>
        <p:spPr>
          <a:xfrm>
            <a:off x="2317680" y="2649600"/>
            <a:ext cx="901800" cy="527040"/>
          </a:xfrm>
          <a:custGeom>
            <a:avLst/>
            <a:gdLst>
              <a:gd name="textAreaLeft" fmla="*/ 0 w 901800"/>
              <a:gd name="textAreaRight" fmla="*/ 902160 w 901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500" h="1159">
                <a:moveTo>
                  <a:pt x="0" y="23"/>
                </a:moveTo>
                <a:cubicBezTo>
                  <a:pt x="100" y="34"/>
                  <a:pt x="504" y="0"/>
                  <a:pt x="602" y="92"/>
                </a:cubicBezTo>
                <a:cubicBezTo>
                  <a:pt x="699" y="184"/>
                  <a:pt x="519" y="509"/>
                  <a:pt x="583" y="574"/>
                </a:cubicBezTo>
                <a:cubicBezTo>
                  <a:pt x="647" y="639"/>
                  <a:pt x="863" y="462"/>
                  <a:pt x="984" y="483"/>
                </a:cubicBezTo>
                <a:cubicBezTo>
                  <a:pt x="1105" y="504"/>
                  <a:pt x="1222" y="591"/>
                  <a:pt x="1308" y="703"/>
                </a:cubicBezTo>
                <a:cubicBezTo>
                  <a:pt x="1394" y="815"/>
                  <a:pt x="1460" y="1064"/>
                  <a:pt x="1500" y="1159"/>
                </a:cubicBezTo>
              </a:path>
            </a:pathLst>
          </a:custGeom>
          <a:noFill/>
          <a:ln w="6480">
            <a:solidFill>
              <a:srgbClr val="cc3300"/>
            </a:solidFill>
            <a:prstDash val="dash"/>
            <a:round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1"/>
          <p:cNvSpPr/>
          <p:nvPr/>
        </p:nvSpPr>
        <p:spPr>
          <a:xfrm>
            <a:off x="4576680" y="16635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2"/>
          <p:cNvSpPr/>
          <p:nvPr/>
        </p:nvSpPr>
        <p:spPr>
          <a:xfrm flipV="1">
            <a:off x="4576680" y="509256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1189080" y="2270160"/>
            <a:ext cx="1301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Resourc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(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4"/>
          <p:cNvSpPr/>
          <p:nvPr/>
        </p:nvSpPr>
        <p:spPr>
          <a:xfrm>
            <a:off x="1189080" y="4438800"/>
            <a:ext cx="1923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Resource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(R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2013120" y="3176640"/>
            <a:ext cx="5062320" cy="74124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Verdana"/>
              </a:rPr>
              <a:t>Action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Verdana"/>
              </a:rPr>
              <a:t>Interactions (I) </a:t>
            </a:r>
            <a:r>
              <a:rPr b="1" lang="en-US" sz="1800" spc="-1" strike="noStrike">
                <a:solidFill>
                  <a:srgbClr val="cc3300"/>
                </a:solidFill>
                <a:latin typeface="Lucida Sans Unicode"/>
              </a:rPr>
              <a:t>   </a:t>
            </a:r>
            <a:r>
              <a:rPr b="1" lang="en-US" sz="1400" spc="-1" strike="noStrike">
                <a:solidFill>
                  <a:srgbClr val="cc3300"/>
                </a:solidFill>
                <a:latin typeface="Verdana"/>
              </a:rPr>
              <a:t> Outcomes (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6334200" y="2238480"/>
            <a:ext cx="15256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Governanc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(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6778800" y="4438800"/>
            <a:ext cx="788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8"/>
          <p:cNvSpPr/>
          <p:nvPr/>
        </p:nvSpPr>
        <p:spPr>
          <a:xfrm flipH="1">
            <a:off x="6316560" y="2811600"/>
            <a:ext cx="432000" cy="338040"/>
          </a:xfrm>
          <a:prstGeom prst="line">
            <a:avLst/>
          </a:prstGeom>
          <a:ln w="64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9"/>
          <p:cNvSpPr/>
          <p:nvPr/>
        </p:nvSpPr>
        <p:spPr>
          <a:xfrm flipV="1">
            <a:off x="2146320" y="3951000"/>
            <a:ext cx="527040" cy="45252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0"/>
          <p:cNvSpPr/>
          <p:nvPr/>
        </p:nvSpPr>
        <p:spPr>
          <a:xfrm flipH="1" flipV="1">
            <a:off x="6316560" y="3951000"/>
            <a:ext cx="601920" cy="447480"/>
          </a:xfrm>
          <a:prstGeom prst="line">
            <a:avLst/>
          </a:prstGeom>
          <a:ln w="64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41"/>
          <p:cNvSpPr/>
          <p:nvPr/>
        </p:nvSpPr>
        <p:spPr>
          <a:xfrm>
            <a:off x="5827680" y="2689200"/>
            <a:ext cx="817560" cy="495360"/>
          </a:xfrm>
          <a:custGeom>
            <a:avLst/>
            <a:gdLst>
              <a:gd name="textAreaLeft" fmla="*/ 0 w 817560"/>
              <a:gd name="textAreaRight" fmla="*/ 817920 w 8175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758" h="1186">
                <a:moveTo>
                  <a:pt x="1758" y="18"/>
                </a:moveTo>
                <a:cubicBezTo>
                  <a:pt x="1658" y="29"/>
                  <a:pt x="1296" y="0"/>
                  <a:pt x="1156" y="87"/>
                </a:cubicBezTo>
                <a:cubicBezTo>
                  <a:pt x="1016" y="174"/>
                  <a:pt x="1076" y="472"/>
                  <a:pt x="919" y="543"/>
                </a:cubicBezTo>
                <a:cubicBezTo>
                  <a:pt x="762" y="614"/>
                  <a:pt x="367" y="405"/>
                  <a:pt x="214" y="512"/>
                </a:cubicBezTo>
                <a:cubicBezTo>
                  <a:pt x="61" y="619"/>
                  <a:pt x="45" y="1046"/>
                  <a:pt x="0" y="1186"/>
                </a:cubicBezTo>
              </a:path>
            </a:pathLst>
          </a:custGeom>
          <a:noFill/>
          <a:ln w="6480">
            <a:solidFill>
              <a:srgbClr val="cc3300"/>
            </a:solidFill>
            <a:prstDash val="dash"/>
            <a:round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2"/>
          <p:cNvSpPr/>
          <p:nvPr/>
        </p:nvSpPr>
        <p:spPr>
          <a:xfrm>
            <a:off x="5856120" y="3914640"/>
            <a:ext cx="986040" cy="749520"/>
          </a:xfrm>
          <a:custGeom>
            <a:avLst/>
            <a:gdLst>
              <a:gd name="textAreaLeft" fmla="*/ 0 w 986040"/>
              <a:gd name="textAreaRight" fmla="*/ 986400 w 98604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788" h="1654">
                <a:moveTo>
                  <a:pt x="1788" y="1654"/>
                </a:moveTo>
                <a:cubicBezTo>
                  <a:pt x="1717" y="1618"/>
                  <a:pt x="1441" y="1542"/>
                  <a:pt x="1359" y="1440"/>
                </a:cubicBezTo>
                <a:cubicBezTo>
                  <a:pt x="1277" y="1338"/>
                  <a:pt x="1402" y="1115"/>
                  <a:pt x="1297" y="1041"/>
                </a:cubicBezTo>
                <a:cubicBezTo>
                  <a:pt x="1192" y="967"/>
                  <a:pt x="859" y="1004"/>
                  <a:pt x="730" y="997"/>
                </a:cubicBezTo>
                <a:cubicBezTo>
                  <a:pt x="601" y="990"/>
                  <a:pt x="593" y="997"/>
                  <a:pt x="524" y="997"/>
                </a:cubicBezTo>
                <a:cubicBezTo>
                  <a:pt x="455" y="997"/>
                  <a:pt x="397" y="1045"/>
                  <a:pt x="319" y="997"/>
                </a:cubicBezTo>
                <a:cubicBezTo>
                  <a:pt x="240" y="950"/>
                  <a:pt x="102" y="877"/>
                  <a:pt x="51" y="711"/>
                </a:cubicBezTo>
                <a:cubicBezTo>
                  <a:pt x="0" y="545"/>
                  <a:pt x="19" y="148"/>
                  <a:pt x="10" y="0"/>
                </a:cubicBezTo>
              </a:path>
            </a:pathLst>
          </a:custGeom>
          <a:noFill/>
          <a:ln w="6480">
            <a:solidFill>
              <a:srgbClr val="cc3300"/>
            </a:solidFill>
            <a:prstDash val="dash"/>
            <a:round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3"/>
          <p:cNvSpPr/>
          <p:nvPr/>
        </p:nvSpPr>
        <p:spPr>
          <a:xfrm rot="600000">
            <a:off x="2519280" y="3850920"/>
            <a:ext cx="727200" cy="590400"/>
          </a:xfrm>
          <a:custGeom>
            <a:avLst/>
            <a:gdLst>
              <a:gd name="textAreaLeft" fmla="*/ 0 w 727200"/>
              <a:gd name="textAreaRight" fmla="*/ 727560 w 727200"/>
              <a:gd name="textAreaTop" fmla="*/ 0 h 590400"/>
              <a:gd name="textAreaBottom" fmla="*/ 590400 h 590400"/>
            </a:gdLst>
            <a:ahLst/>
            <a:rect l="textAreaLeft" t="textAreaTop" r="textAreaRight" b="textAreaBottom"/>
            <a:pathLst>
              <a:path w="1479" h="1285">
                <a:moveTo>
                  <a:pt x="104" y="1285"/>
                </a:moveTo>
                <a:cubicBezTo>
                  <a:pt x="101" y="1205"/>
                  <a:pt x="0" y="905"/>
                  <a:pt x="87" y="804"/>
                </a:cubicBezTo>
                <a:cubicBezTo>
                  <a:pt x="174" y="703"/>
                  <a:pt x="503" y="694"/>
                  <a:pt x="627" y="677"/>
                </a:cubicBezTo>
                <a:cubicBezTo>
                  <a:pt x="751" y="660"/>
                  <a:pt x="763" y="693"/>
                  <a:pt x="832" y="701"/>
                </a:cubicBezTo>
                <a:cubicBezTo>
                  <a:pt x="900" y="709"/>
                  <a:pt x="952" y="764"/>
                  <a:pt x="1035" y="726"/>
                </a:cubicBezTo>
                <a:cubicBezTo>
                  <a:pt x="1119" y="688"/>
                  <a:pt x="1261" y="594"/>
                  <a:pt x="1335" y="473"/>
                </a:cubicBezTo>
                <a:cubicBezTo>
                  <a:pt x="1409" y="353"/>
                  <a:pt x="1449" y="99"/>
                  <a:pt x="1479" y="0"/>
                </a:cubicBezTo>
              </a:path>
            </a:pathLst>
          </a:custGeom>
          <a:noFill/>
          <a:ln w="6480">
            <a:solidFill>
              <a:srgbClr val="cc3300"/>
            </a:solidFill>
            <a:prstDash val="dash"/>
            <a:round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4"/>
          <p:cNvSpPr/>
          <p:nvPr/>
        </p:nvSpPr>
        <p:spPr>
          <a:xfrm>
            <a:off x="1492200" y="1395360"/>
            <a:ext cx="6280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cial, Economic, and Political Setting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5"/>
          <p:cNvSpPr/>
          <p:nvPr/>
        </p:nvSpPr>
        <p:spPr>
          <a:xfrm>
            <a:off x="2593800" y="5545080"/>
            <a:ext cx="391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lated Ecosystems (E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1733400" y="5138640"/>
            <a:ext cx="20019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rect caus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6253200" y="5148360"/>
            <a:ext cx="1065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380880" y="152280"/>
            <a:ext cx="828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7a8f"/>
                </a:solidFill>
                <a:latin typeface="Arial"/>
              </a:rPr>
              <a:t>Microaction situations embedded in broader social-ecological systems</a:t>
            </a:r>
            <a:r>
              <a:rPr b="0" lang="en-US" sz="3200" spc="-1" strike="noStrike">
                <a:solidFill>
                  <a:srgbClr val="227a8f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4"/>
          <p:cNvSpPr/>
          <p:nvPr/>
        </p:nvSpPr>
        <p:spPr>
          <a:xfrm>
            <a:off x="317520" y="6276960"/>
            <a:ext cx="82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aecd"/>
                </a:solidFill>
                <a:latin typeface="Lucida Sans Unicode"/>
                <a:ea typeface="Arial"/>
              </a:rPr>
              <a:t>Source</a:t>
            </a:r>
            <a:r>
              <a:rPr b="0" lang="en-US" sz="2000" spc="-1" strike="noStrike">
                <a:solidFill>
                  <a:srgbClr val="1faecd"/>
                </a:solidFill>
                <a:latin typeface="Lucida Sans Unicode"/>
                <a:ea typeface="Arial"/>
              </a:rPr>
              <a:t>:  Adapted from E. Ostrom (2007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Straight Arrow Connector 28"/>
          <p:cNvCxnSpPr>
            <a:endCxn id="417" idx="1"/>
          </p:cNvCxnSpPr>
          <p:nvPr/>
        </p:nvCxnSpPr>
        <p:spPr>
          <a:xfrm flipV="1">
            <a:off x="1095480" y="5260320"/>
            <a:ext cx="63828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Straight Arrow Connector 29"/>
          <p:cNvCxnSpPr/>
          <p:nvPr/>
        </p:nvCxnSpPr>
        <p:spPr>
          <a:xfrm flipV="1">
            <a:off x="7318080" y="5254200"/>
            <a:ext cx="702360" cy="720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423" name="Line 29"/>
          <p:cNvSpPr/>
          <p:nvPr/>
        </p:nvSpPr>
        <p:spPr>
          <a:xfrm>
            <a:off x="4508640" y="3657600"/>
            <a:ext cx="228600" cy="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D741-4CC6-4824-AC11-98AB8BDD41F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75248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Helps to identify variables that may affect interactions and outco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any variables exist within any focal SES (or set of SESs) surrounding microsettings of an action situ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Need to unpack the variables within a focal SES and identify which ones are relevant for what kind of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ets look at the second ti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8723520" cy="137772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B7C5-10BE-412F-84FB-47B1E928FE5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228600" y="396720"/>
          <a:ext cx="8783640" cy="6461280"/>
        </p:xfrm>
        <a:graphic>
          <a:graphicData uri="http://schemas.openxmlformats.org/drawingml/2006/table">
            <a:tbl>
              <a:tblPr/>
              <a:tblGrid>
                <a:gridCol w="4672080"/>
                <a:gridCol w="4111560"/>
              </a:tblGrid>
              <a:tr h="61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ocial, Economic, and Political Settings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1- Economic development.  S2- Demographic trends.  S3- Political stabilit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4- Government resource policies.  S5- Market incentives.  S6- Media organizat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esource Systems (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overnance Systems (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1- Sector (e.g., water, forests, pasture, fis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2- Clarity of system boundaries</a:t>
                      </a: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3- Size of resource system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4- Human-constructed facil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5- Productivity of system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6- Equilibrium prope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7- Predictability of system dynamics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8- Storage character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S9- 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S1- Government organiz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S2- Nongovernment organiz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S3- Network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S4- Property-rights sys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S5- Operational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S6- Collective-choice rules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S7- Constitutional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GS8- Monitoring and sanctioning proc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esource Units (R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ctors 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U1- Resource unit mobility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U2- Growth or replacement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U3- Interaction among resource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U4- Economic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U5- Number of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U6- Distinctive mark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RU7- Spatial and temporal distribution</a:t>
                      </a: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Verdana"/>
                          <a:ea typeface="宋体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1- Number of users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2- Socioeconomic attributes of 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3- History of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4- 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5- Leadership/entrepreneurship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6- Norms/social capital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7- Knowledge of SES/mental models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8- Importance of resource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A9- Technology used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Verdana"/>
                          <a:ea typeface="宋体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Action Situations: Interactions (I) </a:t>
                      </a: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  <a:ea typeface="宋体"/>
                        </a:rPr>
                        <a:t>→</a:t>
                      </a: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 Outcomes (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I1- Harvesting levels of diverse 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I2- Information sharing among 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I3- Deliberation proc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I4- Conflicts among 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I5- Invest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I6- Lobbying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I7- Self-organizing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I8- Networking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O1- Social performance measu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(e.g., efficiency, equity, accountability, 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sustainabili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O2- Ecological performance measu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(e.g., overharvested, resilience, biodiversity, 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sustainabili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宋体"/>
                        </a:rPr>
                        <a:t>O3- Externalities to other S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lated Ecosystems (E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ECO1- Climate patterns.  ECO2- Pollution patterns.  ECO3- Flows into and out of focal S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*Subset of variables found to be associated with self-organiza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9" name="Rectangle 4"/>
          <p:cNvSpPr/>
          <p:nvPr/>
        </p:nvSpPr>
        <p:spPr>
          <a:xfrm>
            <a:off x="228600" y="3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Second-Tier Variables of a 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1B84-DD03-408A-A220-EBD29D328DA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85680"/>
            <a:ext cx="8467920" cy="1908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o analyze the likelihood of users of a resource self-organizing, research has now identified 10 variables that are starred in the second-tier variab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hese are NOT the design principles – asking what variables are associated with initial self organization a different question than what self-organized systems are robust over tim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宋体"/>
              </a:rPr>
              <a:t>Discussed in a recent article in </a:t>
            </a:r>
            <a:r>
              <a:rPr b="1" i="1" lang="en-US" sz="2300" spc="-1" strike="noStrike">
                <a:solidFill>
                  <a:srgbClr val="000000"/>
                </a:solidFill>
                <a:latin typeface="Lucida Sans Unicode"/>
                <a:ea typeface="宋体"/>
              </a:rPr>
              <a:t>Scienc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宋体"/>
              </a:rPr>
              <a:t>Starred in previous slide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宋体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4194-F8C6-4C87-9AD9-B05F651BE00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Game theory models of Prisoner’s Dilemma and other social dilemmas also predicted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no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coop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Extended credence to prediction of impossibility for participants to solve collective action problem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edia paid considerable attention to cases of resource destruc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s a result, policy analysts recommended that governments own and manage resources or turn them over to private ow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Government-owned protected areas established all over the world to prote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biodiversity and the extent of fore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7" name="Title 2" descr=""/>
          <p:cNvPicPr/>
          <p:nvPr/>
        </p:nvPicPr>
        <p:blipFill>
          <a:blip r:embed="rId1"/>
          <a:stretch/>
        </p:blipFill>
        <p:spPr>
          <a:xfrm>
            <a:off x="195120" y="212760"/>
            <a:ext cx="8498160" cy="96372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587D-8F3D-47F9-8CA3-F8AF88D41E9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Resources in good condition have users with long-term interests, who invest in monitoring and building trust embedded in polycentric sys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any policy analysts and public officials have not yet absorbed the central less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宋体"/>
              </a:rPr>
              <a:t>Government-protected areas or private rights are still recommended by some as THE way to solve these problem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Must learn how to deal with complexity rather than reject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Panaceas are not to be recommende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3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7CE1-8E23-4B64-A867-AE1B1B748C9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6334200" cy="130500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E3EF-3143-416A-B491-09DB3C5FA5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On the other hand, many studies described individual cases where pastoralists, inshore fishers, farmers needing irrigation water had overcome social dilemmas – some for centu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Written by sociologists, historians, engineers, political scientists, anthropolog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Focused on particular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Studied in one contine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iterature strongly divid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DB2D-D95A-4EF5-B706-7932722D6E0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ed to establishment of a National Research Council Committee in 1980s to assess knowl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ocated very large number of c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uthors tended to identify diverse variables in their stud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Identified a substantial need for developing better theories and frameworks to enable knowledge to cumul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Fortunately, the IAD framework was under development at the same tim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862-F78D-4329-A9A7-2466BE9A867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t IU we were developing a meta-theoretical framework for analyzing human interactions in diverse settings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he Institutional Analysis and Development (IAD) framew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Contains a nested set of building blocks that social scientists can use in efforts to understand human interactions and outcome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acros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diverse setting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Exogenous variables affect the internal working parts of an action situation that 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turn affect interactions and outcom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729640" cy="1158840"/>
          </a:xfrm>
          <a:prstGeom prst="rect">
            <a:avLst/>
          </a:prstGeom>
          <a:ln w="0">
            <a:noFill/>
          </a:ln>
        </p:spPr>
      </p:pic>
      <p:sp>
        <p:nvSpPr>
          <p:cNvPr id="33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F664-3955-48D2-8CFB-3CB9E95AA00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24"/>
          <p:cNvSpPr/>
          <p:nvPr/>
        </p:nvSpPr>
        <p:spPr>
          <a:xfrm>
            <a:off x="401760" y="165240"/>
            <a:ext cx="828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Lucida Sans Unicode"/>
              </a:rPr>
              <a:t>A framework for institutiona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285840" y="1292400"/>
            <a:ext cx="8969400" cy="34747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4"/>
          <p:cNvSpPr/>
          <p:nvPr/>
        </p:nvSpPr>
        <p:spPr>
          <a:xfrm>
            <a:off x="208080" y="5513400"/>
            <a:ext cx="82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aecd"/>
                </a:solidFill>
                <a:latin typeface="Arial"/>
                <a:ea typeface="Arial"/>
              </a:rPr>
              <a:t>Source</a:t>
            </a:r>
            <a:r>
              <a:rPr b="0" lang="en-US" sz="2000" spc="-1" strike="noStrike">
                <a:solidFill>
                  <a:srgbClr val="1faecd"/>
                </a:solidFill>
                <a:latin typeface="Arial"/>
                <a:ea typeface="Arial"/>
              </a:rPr>
              <a:t>:  Adapted from E. Ostrom (2005:1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23ED-4E43-45BF-A17F-5DE99E2F4D6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Similar to the working parts of a game so that IAD can be used as a foundation for game theoretical analysis, agent-based models, laboratory experiments, individual case studies, and for collecting, coding, and analyzing extensive data from field resear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D932-CFC1-4791-B139-B240600C44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24"/>
          <p:cNvSpPr/>
          <p:nvPr/>
        </p:nvSpPr>
        <p:spPr>
          <a:xfrm>
            <a:off x="324000" y="165240"/>
            <a:ext cx="86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7a8f"/>
                </a:solidFill>
                <a:latin typeface="Lucida Sans Unicode"/>
              </a:rPr>
              <a:t>The internal structure of an actio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690480" y="861840"/>
            <a:ext cx="7637400" cy="48466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24"/>
          <p:cNvSpPr/>
          <p:nvPr/>
        </p:nvSpPr>
        <p:spPr>
          <a:xfrm>
            <a:off x="709560" y="6127920"/>
            <a:ext cx="81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aecd"/>
                </a:solidFill>
                <a:latin typeface="Arial"/>
                <a:ea typeface="Arial"/>
              </a:rPr>
              <a:t>Source</a:t>
            </a:r>
            <a:r>
              <a:rPr b="0" lang="en-US" sz="2000" spc="-1" strike="noStrike">
                <a:solidFill>
                  <a:srgbClr val="1faecd"/>
                </a:solidFill>
                <a:latin typeface="Arial"/>
                <a:ea typeface="Arial"/>
              </a:rPr>
              <a:t>:  Adapted from E. Ostrom (2005:3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06DB-17BB-4CFB-82C2-099512BB8C5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2:16:59Z</dcterms:created>
  <dc:creator>admin</dc:creator>
  <dc:description/>
  <dc:language>en-US</dc:language>
  <cp:lastModifiedBy>SUWEI</cp:lastModifiedBy>
  <dcterms:modified xsi:type="dcterms:W3CDTF">2011-05-11T03:10:13Z</dcterms:modified>
  <cp:revision>48</cp:revision>
  <dc:subject/>
  <dc:title>Cooperating for the Common Good: Challenging Supposed Impossibilities and Panaceas</dc:title>
</cp:coreProperties>
</file>